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1E1-5DE9-4165-8F9F-D7B04418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5D8-1D42-43D5-8294-0C2D154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560-E5DA-4920-9CEE-7247AF02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BC6-A48A-4956-A8B6-02AE51C1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224-83DB-46F7-A2AD-82AF7E6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F47-8DA6-4732-849A-3706D07A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8C7-D668-468B-A9AF-AA474A3E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704-189B-457D-8A6A-77300C1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DEB-F7DB-4EA7-A6D9-0D34CC58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97F-084B-4DD3-904B-2815A52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2EC-AB32-4890-BAFD-4E102A8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7DD-3EB5-4DBF-9ECA-6565770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B1E6-2556-4399-A0AB-51690ACCD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9400" y="5504040"/>
            <a:ext cx="6585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wept not because Lazarus was dead but because of how distressed his friend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47760" y="5504040"/>
            <a:ext cx="701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-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504040"/>
            <a:ext cx="71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49400" y="4683240"/>
            <a:ext cx="6585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reveals the big secret to Martha, i.e. he is the 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47760" y="4683240"/>
            <a:ext cx="70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683240"/>
            <a:ext cx="714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49400" y="3862440"/>
            <a:ext cx="6585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lets the disciples in on the “big secr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7760" y="3862440"/>
            <a:ext cx="70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62440"/>
            <a:ext cx="714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49400" y="2676600"/>
            <a:ext cx="65851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deliberately stayed back so that Lazarus would die because he knew the bigger plan i.e. raising Lazarus from th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47760" y="2676600"/>
            <a:ext cx="70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676600"/>
            <a:ext cx="714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9400" y="1490760"/>
            <a:ext cx="65851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gh Lazarus was sick, Jesus held back because he knew the bigger plan. Jesus knew the “big surprise” i.e. Lazarus would be raised from th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47760" y="1490760"/>
            <a:ext cx="70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90760"/>
            <a:ext cx="714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685800"/>
            <a:ext cx="65851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47760" y="685800"/>
            <a:ext cx="701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85800"/>
            <a:ext cx="7142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53452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49076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776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4940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67660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86244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68324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50404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21:18:54Z</dcterms:created>
  <dc:creator>Blake Martin</dc:creator>
  <dc:description/>
  <dc:language>en-US</dc:language>
  <cp:lastModifiedBy>Blake Martin</cp:lastModifiedBy>
  <dcterms:modified xsi:type="dcterms:W3CDTF">2012-07-10T21:23:21Z</dcterms:modified>
  <cp:revision>1</cp:revision>
  <dc:subject/>
  <dc:title>Slide 1</dc:title>
</cp:coreProperties>
</file>