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9C03-23F6-4656-8AE3-0ADFAADA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C51C-099F-40DC-B801-52559603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2BEC-98B7-43E7-B4FC-5EAE24AE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60B-3B72-4FD5-8D22-2D8386F6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15D-E1AD-4D7F-B6A6-01A7763A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8BE-2412-4E4F-A5EC-87FE12DB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33FE-C76F-47C0-BC14-FE182D9A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35D5-5D6E-4E08-A468-0481E974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E567-ADBE-41EE-8A95-2BE1FB7C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EA2F-976B-4BCF-8557-13A6D313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DAA2-8F0F-4A34-BDDD-B3687905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551-9D54-45FA-973D-0ED1374F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1D13-4440-4363-86EC-BE4B55A31ABB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01560" y="5732280"/>
            <a:ext cx="5878440" cy="92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Is he a business man, serious gamer, or her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company_pic"/>
          <p:cNvPicPr/>
          <p:nvPr/>
        </p:nvPicPr>
        <p:blipFill>
          <a:blip r:embed="rId1"/>
          <a:stretch/>
        </p:blipFill>
        <p:spPr>
          <a:xfrm>
            <a:off x="1835280" y="333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3080" y="5589720"/>
            <a:ext cx="576108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Is he a bouncer at a bar or does he have a high IQ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6459967727_ff35e67a98"/>
          <p:cNvPicPr/>
          <p:nvPr/>
        </p:nvPicPr>
        <p:blipFill>
          <a:blip r:embed="rId1"/>
          <a:stretch/>
        </p:blipFill>
        <p:spPr>
          <a:xfrm>
            <a:off x="1979640" y="260280"/>
            <a:ext cx="46609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640" y="58816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Is he a famous musician or a PhD physici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brian-may-140344"/>
          <p:cNvPicPr/>
          <p:nvPr/>
        </p:nvPicPr>
        <p:blipFill>
          <a:blip r:embed="rId1"/>
          <a:stretch/>
        </p:blipFill>
        <p:spPr>
          <a:xfrm>
            <a:off x="2411280" y="0"/>
            <a:ext cx="4191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4:34:56Z</dcterms:created>
  <dc:creator>Colleen</dc:creator>
  <dc:description/>
  <dc:language>en-US</dc:language>
  <cp:lastModifiedBy>Colleen</cp:lastModifiedBy>
  <dcterms:modified xsi:type="dcterms:W3CDTF">2012-05-25T04:39:34Z</dcterms:modified>
  <cp:revision>1</cp:revision>
  <dc:subject/>
  <dc:title>Is he a business man, serious gamer, or hero?</dc:title>
</cp:coreProperties>
</file>