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EA4-C9EB-4BC8-ADB3-4C6868B3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414-A395-4AFD-8C51-F430D11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C6D-539E-43FF-A215-B29067A9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B1D-D46F-43BC-AABD-3F3F7602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CE7-568F-42A8-978D-70E36143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F09-4063-4515-BB79-A4B67409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DDE-63D5-4598-8E28-C57A4C24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E96-4D10-4E56-A4D7-C640C17C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4D0-38F9-442B-9093-C16BF1F3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B94-6B19-4C2E-8485-93D5588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80A-7E11-4CC0-AEB5-42E2F163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E89-0B8D-4F22-87F5-64BB6208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3058-6FC3-4EDD-A5DE-078A1028A43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1560" y="5732280"/>
            <a:ext cx="587844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Is he a business man, serious gamer, or her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ompany_pic"/>
          <p:cNvPicPr/>
          <p:nvPr/>
        </p:nvPicPr>
        <p:blipFill>
          <a:blip r:embed="rId1"/>
          <a:stretch/>
        </p:blipFill>
        <p:spPr>
          <a:xfrm>
            <a:off x="1835280" y="333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3080" y="5589720"/>
            <a:ext cx="57610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Is he a bouncer at a bar or does he have a high IQ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6459967727_ff35e67a98"/>
          <p:cNvPicPr/>
          <p:nvPr/>
        </p:nvPicPr>
        <p:blipFill>
          <a:blip r:embed="rId1"/>
          <a:stretch/>
        </p:blipFill>
        <p:spPr>
          <a:xfrm>
            <a:off x="1979640" y="260280"/>
            <a:ext cx="466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58816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Is he a famous musician or a PhD physici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brian-may-140344"/>
          <p:cNvPicPr/>
          <p:nvPr/>
        </p:nvPicPr>
        <p:blipFill>
          <a:blip r:embed="rId1"/>
          <a:stretch/>
        </p:blipFill>
        <p:spPr>
          <a:xfrm>
            <a:off x="2411280" y="0"/>
            <a:ext cx="4191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4:34:56Z</dcterms:created>
  <dc:creator>Colleen</dc:creator>
  <dc:description/>
  <dc:language>en-US</dc:language>
  <cp:lastModifiedBy>Colleen</cp:lastModifiedBy>
  <dcterms:modified xsi:type="dcterms:W3CDTF">2012-05-25T04:39:34Z</dcterms:modified>
  <cp:revision>1</cp:revision>
  <dc:subject/>
  <dc:title>Is he a business man, serious gamer, or hero?</dc:title>
</cp:coreProperties>
</file>