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F41E-2684-49C9-A657-7B10D7C55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8D13-4106-47F1-882B-E8FB0107B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0A32-533F-423B-A08E-456FAD824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024D-9CC0-404B-9DBE-4732B3D54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C4D3-2650-4BA5-83E9-BE16EB2B6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BA77-85A9-4A74-A496-50E8284C2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4839-CDD4-4C6D-AB00-B02BACCEF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AE8B-AA88-4F2B-9D45-27F6F2647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ABC0-984F-4914-9C88-D4B1379AD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7EE2-9E98-43F5-BA6D-256E0C34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B41F-2304-4B19-A42F-7790A2CC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0404-899F-42C7-98F1-2F5D99929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72A06-8DE7-4AD0-BA2C-BF16EAAC7F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49400" y="5504040"/>
            <a:ext cx="65851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sus wept not because Lazarus was dead but because of how distressed his friends w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47760" y="5504040"/>
            <a:ext cx="7016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-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5504040"/>
            <a:ext cx="7142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49400" y="4683240"/>
            <a:ext cx="65851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sus reveals the big secret to Martha, i.e. he is the resur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47760" y="4683240"/>
            <a:ext cx="7016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-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4683240"/>
            <a:ext cx="7142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49400" y="3862440"/>
            <a:ext cx="65851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sus lets the disciples in on the “big secre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47760" y="3862440"/>
            <a:ext cx="7016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-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3862440"/>
            <a:ext cx="7142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49400" y="2676600"/>
            <a:ext cx="658512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sus deliberately stayed back so that Lazarus would die because he knew the bigger plan i.e. raising Lazarus from the d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247760" y="2676600"/>
            <a:ext cx="70164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2676600"/>
            <a:ext cx="71424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949400" y="1490760"/>
            <a:ext cx="658512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ough Lazarus was sick, Jesus held back because he knew the bigger plan. Jesus knew the “big surprise” i.e. Lazarus would be raised from the d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247760" y="1490760"/>
            <a:ext cx="70164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1490760"/>
            <a:ext cx="71424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49400" y="685800"/>
            <a:ext cx="658512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47760" y="685800"/>
            <a:ext cx="70164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685800"/>
            <a:ext cx="71424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685800"/>
            <a:ext cx="800100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6324480"/>
            <a:ext cx="800100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685800"/>
            <a:ext cx="0" cy="56386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534520" y="685800"/>
            <a:ext cx="0" cy="56386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1490760"/>
            <a:ext cx="800100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47760" y="685800"/>
            <a:ext cx="0" cy="56386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949400" y="685800"/>
            <a:ext cx="0" cy="56386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2676600"/>
            <a:ext cx="800100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3862440"/>
            <a:ext cx="800100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4683240"/>
            <a:ext cx="800100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5504040"/>
            <a:ext cx="800100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0T21:18:54Z</dcterms:created>
  <dc:creator>Blake Martin</dc:creator>
  <dc:description/>
  <dc:language>en-US</dc:language>
  <cp:lastModifiedBy>Blake Martin</cp:lastModifiedBy>
  <dcterms:modified xsi:type="dcterms:W3CDTF">2012-07-10T21:23:21Z</dcterms:modified>
  <cp:revision>1</cp:revision>
  <dc:subject/>
  <dc:title>Slide 1</dc:title>
</cp:coreProperties>
</file>