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169-50BC-4C69-ADE9-1C0064A7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C18-3444-46FD-9B24-FF1EED8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181-1243-41FB-BC5B-D008DE8F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80D-8EA0-446F-B322-13218614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9B5-EC8C-4BF8-855D-359EEA32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410-1E66-4CBC-94E6-7E4F4262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C90-84B3-4F80-ACE9-41F7C2BF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17F-3F21-4979-ADA4-CD67B8F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A288-F2EC-4711-A60A-734E72C6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33E-E768-43CE-AA12-CA79D9D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409-05AE-4390-ABE3-0491560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478-C808-45A4-9399-EA70F659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5110-1629-4BEE-B031-3D99B27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7DF2-F8FE-4A72-83B1-2EB195CF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E5F-233F-4168-A2ED-D469E8A2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DC55-D3A2-4D32-98D8-D817EC17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51CA-A865-4BD1-BE90-5A616D75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79B-361E-4C9C-B04D-EF296C66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88D-97A9-4D03-A7FF-4892B71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B5D-FE83-48C2-86FA-D4FA248F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9B1-E36F-41A9-9EB6-322B9F1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59A-3528-4656-AEAA-3D0770CF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D9C-077C-43A8-B845-942F03A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FED-184B-44A7-892E-1BCB940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7372-9086-4DDC-8506-77111EDF2E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9E81-60A3-43DE-9107-53D443BC90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80880" y="457200"/>
          <a:ext cx="3429000" cy="5334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5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the Lord your God with all your heart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d with all your soul and with all your mind...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your neighbour as yourself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 All the Law and the Prophets hang on these two commandments. </a:t>
                      </a: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thew 22:37–40 (NIV)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 and make disciples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of all nations, 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ptizing them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n the name of the Father and the Son and of the Holy Spirit, and 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ching them to obey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everything I have commanded you. </a:t>
                      </a: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thew 28:19–20 (NIV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09880" y="457200"/>
          <a:ext cx="4724640" cy="533412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ship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the Lord your God with all your hear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stry (meeting needs with love)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your neighbour as yourself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ssion/Evangelism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 and make discipl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llowship (belonging)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ptizing the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ipleship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ching them to obe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7"/>
          <p:cNvSpPr/>
          <p:nvPr/>
        </p:nvSpPr>
        <p:spPr>
          <a:xfrm>
            <a:off x="106668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(Rick Warren, </a:t>
            </a:r>
            <a:r>
              <a:rPr b="0" i="1" lang="en-CA" sz="1800" spc="-1" strike="noStrike">
                <a:solidFill>
                  <a:srgbClr val="ffffff"/>
                </a:solidFill>
                <a:latin typeface="Verdana"/>
              </a:rPr>
              <a:t>The Purpose Driven Church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Zondervan, 1995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9:45:10Z</dcterms:created>
  <dc:creator>Associate Pastor</dc:creator>
  <dc:description/>
  <dc:language>en-US</dc:language>
  <cp:lastModifiedBy>bcoqyouthintern1</cp:lastModifiedBy>
  <dcterms:modified xsi:type="dcterms:W3CDTF">2010-06-30T13:36:19Z</dcterms:modified>
  <cp:revision>3</cp:revision>
  <dc:subject/>
  <dc:title>Slide 1</dc:title>
</cp:coreProperties>
</file>