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CA02-6D32-43B6-85D2-9A1A9FAE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D8E-5743-43B4-ADA5-39036732C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B323-50F5-4115-BCB0-BB24E3CF3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689B-E92B-4535-BE4D-6A6F79FC9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6F23-8222-409E-A728-71E3F3860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DA20-3A19-4A66-80BE-FB7C0584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00EC-258F-48F0-BC84-456E037CD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4E9-ADAE-4365-BDBE-9A334270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A438-44AA-4169-AEA6-0A8F6F913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6F1C-255F-4A6A-8324-F30CCD2D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BE01-39D4-40C9-BC68-5D240A7C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59B-75B3-4692-BCAE-EEF24700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B383-8B12-48AA-A51A-37149D37C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4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ok at the line on the lef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of the other 3 lines is the same length as the first li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8000" y="6453360"/>
            <a:ext cx="360360" cy="36036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8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30T22:14:24Z</dcterms:created>
  <dc:creator>Elaine Vanderwerf</dc:creator>
  <dc:description/>
  <dc:language>en-US</dc:language>
  <cp:lastModifiedBy>Blake Martin</cp:lastModifiedBy>
  <dcterms:modified xsi:type="dcterms:W3CDTF">2013-06-25T16:40:05Z</dcterms:modified>
  <cp:revision>3</cp:revision>
  <dc:subject/>
  <dc:title>Look at the line on the left</dc:title>
</cp:coreProperties>
</file>