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B1A-0AC2-4458-8F02-0940F54E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25F-BEAD-4475-9777-DA52A16E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1EE-F7D9-4A84-B76C-5EF31DBF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49AC-A538-4AE5-835B-7DDA231B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80E3-50C6-4AA2-8DCC-35F47085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5A08-F615-49C3-B98C-C975147C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15F0-AE46-4EC7-AF45-47229FE1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9E52-F9EA-4936-A8B6-F2373E1C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BC1A-6BBA-4553-BCAC-0D169BE7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B023-D23C-4538-8163-A489FD71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096C-7FE2-424B-924F-C38EDCBD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55C-3CF1-43A9-A017-6615C003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7310-2F47-444F-B398-86599DB1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B136-0CFC-449D-9994-0742476F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A87A-81C1-40B2-A609-C97A8D5C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6A7-6890-44F7-B07A-A0EB69AA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9D0E-2563-4F6F-8697-CD046DDA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B84-ACE3-4F3E-B5A2-9D3315BE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A729-0F4B-4D5B-A771-492FA967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40B-1E74-4148-8E76-25F0751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ED53-AADF-40CF-978D-2EE5349A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3A6-022B-4BF5-9CD3-55769AA8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531-6741-435D-8002-7C7E303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E76-E880-4C08-9CA1-C23C4D32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72C-4EF7-497A-82A4-F1783709E8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22B9-7CFC-4498-8FB0-90F47571CD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380880" y="457200"/>
          <a:ext cx="3429000" cy="5334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25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the Lord your God with all your heart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and with all your soul and with all your mind...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your neighbour as yourself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 All the Law and the Prophets hang on these two commandments. </a:t>
                      </a: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thew 22:37–40 (NIV)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 and make disciples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of all nations, 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ptizing them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in the name of the Father and the Son and of the Holy Spirit, and 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ching them to obey</a:t>
                      </a:r>
                      <a:r>
                        <a:rPr b="0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everything I have commanded you. </a:t>
                      </a: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thew 28:19–20 (NIV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809880" y="457200"/>
          <a:ext cx="4724640" cy="5334120"/>
        </p:xfrm>
        <a:graphic>
          <a:graphicData uri="http://schemas.openxmlformats.org/drawingml/2006/table">
            <a:tbl>
              <a:tblPr/>
              <a:tblGrid>
                <a:gridCol w="4724640"/>
              </a:tblGrid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orship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the Lord your God with all your hear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stry (meeting needs with love)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ve your neighbour as yourself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ssion/Evangelism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o and make discipl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ellowship (belonging)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aptizing the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ipleship</a:t>
                      </a:r>
                      <a:br>
                        <a:rPr sz="1800"/>
                      </a:br>
                      <a:r>
                        <a:rPr b="0" i="1" lang="en-CA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aching them to obey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Text Box 57"/>
          <p:cNvSpPr/>
          <p:nvPr/>
        </p:nvSpPr>
        <p:spPr>
          <a:xfrm>
            <a:off x="1066680" y="6172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(Rick Warren, </a:t>
            </a:r>
            <a:r>
              <a:rPr b="0" i="1" lang="en-CA" sz="1800" spc="-1" strike="noStrike">
                <a:solidFill>
                  <a:srgbClr val="ffffff"/>
                </a:solidFill>
                <a:latin typeface="Verdana"/>
              </a:rPr>
              <a:t>The Purpose Driven Church</a:t>
            </a:r>
            <a:r>
              <a:rPr b="0" lang="en-CA" sz="1800" spc="-1" strike="noStrike">
                <a:solidFill>
                  <a:srgbClr val="ffffff"/>
                </a:solidFill>
                <a:latin typeface="Verdana"/>
              </a:rPr>
              <a:t>, Zondervan, 1995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9:45:10Z</dcterms:created>
  <dc:creator>Associate Pastor</dc:creator>
  <dc:description/>
  <dc:language>en-US</dc:language>
  <cp:lastModifiedBy>bcoqyouthintern1</cp:lastModifiedBy>
  <dcterms:modified xsi:type="dcterms:W3CDTF">2010-06-30T13:36:19Z</dcterms:modified>
  <cp:revision>3</cp:revision>
  <dc:subject/>
  <dc:title>Slide 1</dc:title>
</cp:coreProperties>
</file>